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0053-0755-44D0-8832-27D1DD1B8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B4DC-A3AA-4CD5-BF8C-0AD085F28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0A74-0C87-431A-8172-BDD664E09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23AF-F8F5-4B41-9A62-B27000060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3E92-35DF-458A-B802-4B37D6149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8133-0D81-4359-9FBC-C762FC3E5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F1F8-66B2-40A5-AC0F-B59F5A81E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5CAB-E267-4754-B22A-52AC1F583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9686-A616-4330-87F7-08721FD8C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33EE-DDB2-4246-963F-E0250FD3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4BA4-C609-48C7-BEA4-4E752211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7C19-6026-49E7-AA08-CECB799E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A8B78-DC19-4D37-B765-DCF30504FE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52280" y="228600"/>
            <a:ext cx="8763120" cy="56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Waves &amp; Sound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Wave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.  The nature of wave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A wave is a rhythmic disturbance that transfers energy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All waves are made by something that vibrate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152280" y="228600"/>
            <a:ext cx="8763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)  Diffraction depends on the size of the obstacle or opening compared to the wavelength of the wav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77" name="Picture 3" descr="diffraction_objects"/>
          <p:cNvPicPr/>
          <p:nvPr/>
        </p:nvPicPr>
        <p:blipFill>
          <a:blip r:embed="rId1"/>
          <a:stretch/>
        </p:blipFill>
        <p:spPr>
          <a:xfrm>
            <a:off x="1066680" y="2819520"/>
            <a:ext cx="7048800" cy="26622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304920" y="5562720"/>
            <a:ext cx="4038480" cy="703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Less occurs if wavelength is smaller than the object.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4800600" y="5562720"/>
            <a:ext cx="3886200" cy="7038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More occurs if wavelength is larger than the object.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0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radio"/>
          <p:cNvPicPr/>
          <p:nvPr/>
        </p:nvPicPr>
        <p:blipFill>
          <a:blip r:embed="rId1"/>
          <a:stretch/>
        </p:blipFill>
        <p:spPr>
          <a:xfrm>
            <a:off x="2209680" y="228600"/>
            <a:ext cx="4557960" cy="31179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304920" y="3581280"/>
            <a:ext cx="8534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4)  AM radio waves are longer and can diffract around large buildings and mountains; FM can’t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152280" y="152280"/>
            <a:ext cx="5029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d.  </a:t>
            </a:r>
            <a:r>
              <a:rPr b="0" lang="en-US" sz="4000" spc="-1" strike="noStrike">
                <a:solidFill>
                  <a:srgbClr val="3333cc"/>
                </a:solidFill>
                <a:latin typeface="Arial Rounded MT Bold"/>
              </a:rPr>
              <a:t>Interference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- two or more waves overlapping to form a new wav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85" name="Picture 8" descr="wave_interference"/>
          <p:cNvPicPr/>
          <p:nvPr/>
        </p:nvPicPr>
        <p:blipFill>
          <a:blip r:embed="rId1"/>
          <a:stretch/>
        </p:blipFill>
        <p:spPr>
          <a:xfrm>
            <a:off x="5257800" y="762120"/>
            <a:ext cx="3886200" cy="4905360"/>
          </a:xfrm>
          <a:prstGeom prst="rect">
            <a:avLst/>
          </a:prstGeom>
          <a:ln w="0">
            <a:noFill/>
          </a:ln>
        </p:spPr>
      </p:pic>
      <p:sp>
        <p:nvSpPr>
          <p:cNvPr id="8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interference_constructive"/>
          <p:cNvPicPr/>
          <p:nvPr/>
        </p:nvPicPr>
        <p:blipFill>
          <a:blip r:embed="rId1"/>
          <a:stretch/>
        </p:blipFill>
        <p:spPr>
          <a:xfrm>
            <a:off x="609480" y="228600"/>
            <a:ext cx="7925040" cy="36766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304920" y="4191120"/>
            <a:ext cx="853416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Constructive (in phase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Sound waves that constructively interfere are louder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3"/>
          <p:cNvSpPr/>
          <p:nvPr/>
        </p:nvSpPr>
        <p:spPr>
          <a:xfrm>
            <a:off x="304920" y="4191120"/>
            <a:ext cx="853416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Destructive (out of phase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Sound waves that destructively interfere are not as loud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91" name="Picture 4" descr="interference_destructive"/>
          <p:cNvPicPr/>
          <p:nvPr/>
        </p:nvPicPr>
        <p:blipFill>
          <a:blip r:embed="rId1"/>
          <a:stretch/>
        </p:blipFill>
        <p:spPr>
          <a:xfrm>
            <a:off x="609480" y="228600"/>
            <a:ext cx="7981920" cy="3705120"/>
          </a:xfrm>
          <a:prstGeom prst="rect">
            <a:avLst/>
          </a:prstGeom>
          <a:ln w="0">
            <a:noFill/>
          </a:ln>
        </p:spPr>
      </p:pic>
      <p:sp>
        <p:nvSpPr>
          <p:cNvPr id="9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228600" y="228600"/>
            <a:ext cx="86104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e.  </a:t>
            </a:r>
            <a:r>
              <a:rPr b="0" lang="en-US" sz="4000" spc="-1" strike="noStrike">
                <a:solidFill>
                  <a:srgbClr val="ffff00"/>
                </a:solidFill>
                <a:latin typeface="Arial Rounded MT Bold"/>
              </a:rPr>
              <a:t>Standing wave</a:t>
            </a: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 - a wave pattern that occurs when two waves equal in wavelength and frequency meet from opposite directions and continuously interfere with each other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94" name="Picture 3" descr="wave_standing"/>
          <p:cNvPicPr/>
          <p:nvPr/>
        </p:nvPicPr>
        <p:blipFill>
          <a:blip r:embed="rId1"/>
          <a:stretch/>
        </p:blipFill>
        <p:spPr>
          <a:xfrm>
            <a:off x="2133720" y="4495680"/>
            <a:ext cx="3695760" cy="22100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0" y="487692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node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6" name="Line 5"/>
          <p:cNvSpPr/>
          <p:nvPr/>
        </p:nvSpPr>
        <p:spPr>
          <a:xfrm>
            <a:off x="1523880" y="5257800"/>
            <a:ext cx="25146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7" name="Line 6"/>
          <p:cNvSpPr/>
          <p:nvPr/>
        </p:nvSpPr>
        <p:spPr>
          <a:xfrm>
            <a:off x="4038480" y="5257800"/>
            <a:ext cx="0" cy="38088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6705720" y="502920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antinode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9" name="Line 8"/>
          <p:cNvSpPr/>
          <p:nvPr/>
        </p:nvSpPr>
        <p:spPr>
          <a:xfrm flipH="1">
            <a:off x="5028840" y="5257800"/>
            <a:ext cx="16002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0" name="Line 9"/>
          <p:cNvSpPr/>
          <p:nvPr/>
        </p:nvSpPr>
        <p:spPr>
          <a:xfrm>
            <a:off x="5029200" y="5257800"/>
            <a:ext cx="0" cy="30492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1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228600" y="228600"/>
            <a:ext cx="8686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f.  </a:t>
            </a:r>
            <a:r>
              <a:rPr b="0" lang="en-US" sz="4000" spc="-1" strike="noStrike">
                <a:solidFill>
                  <a:srgbClr val="3333cc"/>
                </a:solidFill>
                <a:latin typeface="Arial Rounded MT Bold"/>
              </a:rPr>
              <a:t>Resonance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- the ability of an object to vibrate by absorbing energy at its natural frequency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03" name="Picture 3" descr="2-tuning-fork-resonator-boxes-sm"/>
          <p:cNvPicPr/>
          <p:nvPr/>
        </p:nvPicPr>
        <p:blipFill>
          <a:blip r:embed="rId1"/>
          <a:stretch/>
        </p:blipFill>
        <p:spPr>
          <a:xfrm>
            <a:off x="2209680" y="2514600"/>
            <a:ext cx="4791240" cy="35179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52280" y="228600"/>
            <a:ext cx="8763120" cy="65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Sound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.  Energy is transferred from particle to particle through matter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.  How we hear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Outer ear collects sound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Middle ear amplifies sound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.  Inner ear converts sound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ear"/>
          <p:cNvPicPr/>
          <p:nvPr/>
        </p:nvPicPr>
        <p:blipFill>
          <a:blip r:embed="rId1"/>
          <a:stretch/>
        </p:blipFill>
        <p:spPr>
          <a:xfrm>
            <a:off x="485640" y="485640"/>
            <a:ext cx="8172720" cy="5886720"/>
          </a:xfrm>
          <a:prstGeom prst="rect">
            <a:avLst/>
          </a:prstGeom>
          <a:ln w="0">
            <a:noFill/>
          </a:ln>
        </p:spPr>
      </p:pic>
      <p:sp>
        <p:nvSpPr>
          <p:cNvPr id="10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304920" y="152280"/>
            <a:ext cx="8610480" cy="62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.  Properties of sound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Intensity and loudnes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Intensity depends on the energy in a sound wav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Loudness is human perception of intensity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)  Loudness is measured on the decibel scal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152280" y="228600"/>
            <a:ext cx="876312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.  Mechanical waves need a matter </a:t>
            </a:r>
            <a:r>
              <a:rPr b="0" lang="en-US" sz="4000" spc="-1" strike="noStrike">
                <a:solidFill>
                  <a:srgbClr val="3333cc"/>
                </a:solidFill>
                <a:latin typeface="Arial Rounded MT Bold"/>
              </a:rPr>
              <a:t>medium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to travel through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(sound, water, seismic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.  Two basic types of waves: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</a:t>
            </a:r>
            <a:r>
              <a:rPr b="0" lang="en-US" sz="4000" spc="-1" strike="noStrike">
                <a:solidFill>
                  <a:srgbClr val="3333cc"/>
                </a:solidFill>
                <a:latin typeface="Arial Rounded MT Bold"/>
              </a:rPr>
              <a:t>Transverse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152280" y="4343400"/>
            <a:ext cx="87631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</a:t>
            </a:r>
            <a:r>
              <a:rPr b="0" lang="en-US" sz="4000" spc="-1" strike="noStrike">
                <a:solidFill>
                  <a:srgbClr val="3333cc"/>
                </a:solidFill>
                <a:latin typeface="Arial Rounded MT Bold"/>
              </a:rPr>
              <a:t>Compressional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(longitudinal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45" name="Picture 4" descr="wave_transverse"/>
          <p:cNvPicPr/>
          <p:nvPr/>
        </p:nvPicPr>
        <p:blipFill>
          <a:blip r:embed="rId1"/>
          <a:stretch/>
        </p:blipFill>
        <p:spPr>
          <a:xfrm>
            <a:off x="5400720" y="3276720"/>
            <a:ext cx="3743280" cy="1590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wave_compressional"/>
          <p:cNvPicPr/>
          <p:nvPr/>
        </p:nvPicPr>
        <p:blipFill>
          <a:blip r:embed="rId2"/>
          <a:stretch/>
        </p:blipFill>
        <p:spPr>
          <a:xfrm>
            <a:off x="5467320" y="4867200"/>
            <a:ext cx="3676680" cy="1990800"/>
          </a:xfrm>
          <a:prstGeom prst="rect">
            <a:avLst/>
          </a:prstGeom>
          <a:ln w="0">
            <a:noFill/>
          </a:ln>
        </p:spPr>
      </p:pic>
      <p:sp>
        <p:nvSpPr>
          <p:cNvPr id="47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decibel_scale"/>
          <p:cNvPicPr/>
          <p:nvPr/>
        </p:nvPicPr>
        <p:blipFill>
          <a:blip r:embed="rId1"/>
          <a:stretch/>
        </p:blipFill>
        <p:spPr>
          <a:xfrm>
            <a:off x="0" y="0"/>
            <a:ext cx="9144000" cy="43527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0" y="457200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)  Threshold of hearing (0 db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)  Threshold of pain (120 db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0" y="0"/>
            <a:ext cx="9144000" cy="68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Frequency and pitch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High frequency means more vibrations hitting the ear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Pitch is how high or how low a sound seems to b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)  Healthy humans can hear from 20 Hz to 20,000 Hz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4)  We are most sensitive from 440 Hz to 7,000 Hz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6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0" y="0"/>
            <a:ext cx="9144000" cy="67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5)  Ultrasonic sound has a frequency greater than 20,000 Hz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)  Dogs (up to 35,000 Hz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)  Bats (over 100,000 Hz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)  Medical diagnosi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6)  Infrasonic sound has a frequency below 20 Hz; they are felt rather than heard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(earthquakes, heavy machinery)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8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0" y="0"/>
            <a:ext cx="9144000" cy="65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.  Speed of sound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332 m/s in air at 0 C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Changes by 0.6 m/s for every Celsius degree from 0 C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)  Subsonic – slower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4)  Supersonic – faster than sound (Mach 1 = speed of sound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5)  Sonic boom (pressure cone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0" y="0"/>
            <a:ext cx="9144000" cy="65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d.  The Doppler effect – the change in pitch due to a moving wave sourc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Objects moving toward you cause a higher pitched sound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Objects moving away cause sound of lower pitch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)  Used in radar by police and meteorologists and in astronomy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doppler"/>
          <p:cNvPicPr/>
          <p:nvPr/>
        </p:nvPicPr>
        <p:blipFill>
          <a:blip r:embed="rId1"/>
          <a:stretch/>
        </p:blipFill>
        <p:spPr>
          <a:xfrm>
            <a:off x="268200" y="343080"/>
            <a:ext cx="8607600" cy="6172200"/>
          </a:xfrm>
          <a:prstGeom prst="rect">
            <a:avLst/>
          </a:prstGeom>
          <a:ln w="0">
            <a:noFill/>
          </a:ln>
        </p:spPr>
      </p:pic>
      <p:sp>
        <p:nvSpPr>
          <p:cNvPr id="124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0" y="0"/>
            <a:ext cx="9144000" cy="68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4.  Musical sound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Noise has no pattern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Music has a pattern and deliberate pitche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.  Sound quality describes differences of sounds that have the same pitch and loudnes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d.  Every instrument has its own set of overtone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6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0"/>
            <a:ext cx="91440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e)  Beats are pulsing variations of loudness caused by interference of sounds of slightly different frequencie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28" name="Picture 3" descr="beat"/>
          <p:cNvPicPr/>
          <p:nvPr/>
        </p:nvPicPr>
        <p:blipFill>
          <a:blip r:embed="rId1"/>
          <a:stretch/>
        </p:blipFill>
        <p:spPr>
          <a:xfrm>
            <a:off x="0" y="2446200"/>
            <a:ext cx="9029880" cy="4411800"/>
          </a:xfrm>
          <a:prstGeom prst="rect">
            <a:avLst/>
          </a:prstGeom>
          <a:ln w="0">
            <a:noFill/>
          </a:ln>
        </p:spPr>
      </p:pic>
      <p:sp>
        <p:nvSpPr>
          <p:cNvPr id="12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0" y="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5.  Uses of sound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Acoustics – the study of sound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0" y="1600200"/>
            <a:ext cx="9144000" cy="19224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Rounded MT Bold"/>
              </a:rPr>
              <a:t>Soft materials dampen sound; hard materials reflect it (echoes and reverberations)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0" y="3581280"/>
            <a:ext cx="91440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SONAR – Sound Navigation and Ranging (echolocation)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.  Ultrasound imaging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d.  Kidney stones &amp; gallstone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4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52280" y="228600"/>
            <a:ext cx="8763120" cy="56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4.  Wave properties: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Wavelength - distance from a point on a wave to the same corresponding point on the next wav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Frequency - number of waves that pass a point in one second (expressed in Hz)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152280" y="228600"/>
            <a:ext cx="8763120" cy="65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.  Wavelength has an inverse relationship to wave frequency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d.  Wave velocity depends on the type of wave and medium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Sound is faster in more dense media and in higher temp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Light is slower in more dense media, but faster in a vacuum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152280" y="22860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)  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53" name="Picture 3" descr="wave_velocity_equation"/>
          <p:cNvPicPr/>
          <p:nvPr/>
        </p:nvPicPr>
        <p:blipFill>
          <a:blip r:embed="rId1"/>
          <a:stretch/>
        </p:blipFill>
        <p:spPr>
          <a:xfrm>
            <a:off x="2209680" y="152280"/>
            <a:ext cx="3372120" cy="8953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228600" y="1143000"/>
            <a:ext cx="8686800" cy="56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e.  Amplitude - size related to the energy carried by the wav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Transverse - how high above or how low below the nodal lin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Compressional - how dense the medium is at the compressions &amp; rarefaction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52280" y="228600"/>
            <a:ext cx="87631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5.  Wave behavior: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</a:t>
            </a:r>
            <a:r>
              <a:rPr b="0" lang="en-US" sz="4000" spc="-1" strike="noStrike">
                <a:solidFill>
                  <a:srgbClr val="3333cc"/>
                </a:solidFill>
                <a:latin typeface="Arial Rounded MT Bold"/>
              </a:rPr>
              <a:t>Reflection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- the bouncing back of a wav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Sound echoe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57" name="Picture 3" descr="law_of_reflection"/>
          <p:cNvPicPr/>
          <p:nvPr/>
        </p:nvPicPr>
        <p:blipFill>
          <a:blip r:embed="rId1"/>
          <a:stretch/>
        </p:blipFill>
        <p:spPr>
          <a:xfrm>
            <a:off x="6419880" y="3629160"/>
            <a:ext cx="2724120" cy="32288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228600" y="3718080"/>
            <a:ext cx="609588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Light images in mirror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)  Law of reflection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    </a:t>
            </a:r>
            <a:r>
              <a:rPr b="0" i="1" lang="en-US" sz="4000" spc="-1" strike="noStrike">
                <a:solidFill>
                  <a:srgbClr val="cc0000"/>
                </a:solidFill>
                <a:latin typeface="Arial Rounded MT Bold"/>
              </a:rPr>
              <a:t>i</a:t>
            </a:r>
            <a:r>
              <a:rPr b="0" lang="en-US" sz="4000" spc="-1" strike="noStrike">
                <a:solidFill>
                  <a:srgbClr val="cc0000"/>
                </a:solidFill>
                <a:latin typeface="Arial Rounded MT Bold"/>
              </a:rPr>
              <a:t>  =  </a:t>
            </a:r>
            <a:r>
              <a:rPr b="0" i="1" lang="en-US" sz="4000" spc="-1" strike="noStrike">
                <a:solidFill>
                  <a:srgbClr val="cc0000"/>
                </a:solidFill>
                <a:latin typeface="Arial Rounded MT Bold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600200" y="228600"/>
            <a:ext cx="7315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</a:t>
            </a:r>
            <a:r>
              <a:rPr b="0" lang="en-US" sz="4000" spc="-1" strike="noStrike">
                <a:solidFill>
                  <a:srgbClr val="3333cc"/>
                </a:solidFill>
                <a:latin typeface="Arial Rounded MT Bold"/>
              </a:rPr>
              <a:t>Refraction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- the bending of a wave caused by a change in speed as the wave moves from one medium to another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61" name="Picture 3" descr="refraction_pencil"/>
          <p:cNvPicPr/>
          <p:nvPr/>
        </p:nvPicPr>
        <p:blipFill>
          <a:blip r:embed="rId1"/>
          <a:stretch/>
        </p:blipFill>
        <p:spPr>
          <a:xfrm>
            <a:off x="152280" y="533520"/>
            <a:ext cx="1343160" cy="2381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refraction_flashlight"/>
          <p:cNvPicPr/>
          <p:nvPr/>
        </p:nvPicPr>
        <p:blipFill>
          <a:blip r:embed="rId2"/>
          <a:stretch/>
        </p:blipFill>
        <p:spPr>
          <a:xfrm>
            <a:off x="457200" y="3505320"/>
            <a:ext cx="8229600" cy="3101760"/>
          </a:xfrm>
          <a:prstGeom prst="rect">
            <a:avLst/>
          </a:prstGeom>
          <a:ln w="0">
            <a:noFill/>
          </a:ln>
        </p:spPr>
      </p:pic>
      <p:sp>
        <p:nvSpPr>
          <p:cNvPr id="6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refraction_pool"/>
          <p:cNvPicPr/>
          <p:nvPr/>
        </p:nvPicPr>
        <p:blipFill>
          <a:blip r:embed="rId1"/>
          <a:stretch/>
        </p:blipFill>
        <p:spPr>
          <a:xfrm>
            <a:off x="3505320" y="304920"/>
            <a:ext cx="5410080" cy="42670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152280" y="228600"/>
            <a:ext cx="3276720" cy="3750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The girl sees the boy’s foot closer to the surface than it actually i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152280" y="4724280"/>
            <a:ext cx="8763120" cy="1922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Rounded MT Bold"/>
              </a:rPr>
              <a:t>If the boy looks down at his feet, will they seem closer to him than they really are?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152280" y="4724280"/>
            <a:ext cx="8763120" cy="1922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Rounded MT Bold"/>
              </a:rPr>
              <a:t>No!  He is looking straight down and not at an angle.  There is no refraction for him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8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52280" y="152280"/>
            <a:ext cx="5562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.  </a:t>
            </a:r>
            <a:r>
              <a:rPr b="0" lang="en-US" sz="4000" spc="-1" strike="noStrike">
                <a:solidFill>
                  <a:srgbClr val="3333cc"/>
                </a:solidFill>
                <a:latin typeface="Arial Rounded MT Bold"/>
              </a:rPr>
              <a:t>Diffraction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- the bending of a wave around the edge of an object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70" name="Picture 5" descr="diffraction_islands"/>
          <p:cNvPicPr/>
          <p:nvPr/>
        </p:nvPicPr>
        <p:blipFill>
          <a:blip r:embed="rId1"/>
          <a:stretch/>
        </p:blipFill>
        <p:spPr>
          <a:xfrm>
            <a:off x="5791320" y="152280"/>
            <a:ext cx="3219480" cy="2181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diffraction_water_opening"/>
          <p:cNvPicPr/>
          <p:nvPr/>
        </p:nvPicPr>
        <p:blipFill>
          <a:blip r:embed="rId2"/>
          <a:stretch/>
        </p:blipFill>
        <p:spPr>
          <a:xfrm>
            <a:off x="6095880" y="3429000"/>
            <a:ext cx="2495520" cy="2981160"/>
          </a:xfrm>
          <a:prstGeom prst="rect">
            <a:avLst/>
          </a:prstGeom>
          <a:ln w="0">
            <a:noFill/>
          </a:ln>
        </p:spPr>
      </p:pic>
      <p:sp>
        <p:nvSpPr>
          <p:cNvPr id="72" name="Line 7"/>
          <p:cNvSpPr/>
          <p:nvPr/>
        </p:nvSpPr>
        <p:spPr>
          <a:xfrm>
            <a:off x="7315200" y="2971800"/>
            <a:ext cx="0" cy="91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152280" y="2819520"/>
            <a:ext cx="5410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Water waves bending around island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152280" y="4800600"/>
            <a:ext cx="556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Water waves passing through a slit and spreading out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5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30T20:01:30Z</dcterms:created>
  <dc:creator>Michael Bennett</dc:creator>
  <dc:description/>
  <dc:language>en-US</dc:language>
  <cp:lastModifiedBy>Asus</cp:lastModifiedBy>
  <dcterms:modified xsi:type="dcterms:W3CDTF">2018-03-09T16:46:44Z</dcterms:modified>
  <cp:revision>26</cp:revision>
  <dc:subject/>
  <dc:title>No Slide Title</dc:title>
</cp:coreProperties>
</file>